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5226C-5AE0-491A-8E55-0B7095BC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B0E4A-C305-4B2B-9708-7D97EF06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61C98-A252-40E9-A410-C67D6184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039E4-11D4-4647-86E1-F6351431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D6532-8FDD-4C83-8366-A697A993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4C245-F25C-4DC3-8150-6FAB7E56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3CB3B-9F77-4FFD-8D35-1D0B0B67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D0511-F780-4BF2-B437-903278F8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F3291-90FA-4BB5-BDB8-E6FD7ACB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6DEA9-680D-4176-897B-3DE211C6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05071-2C9B-4577-B300-04168D7F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5A20E-CDBD-41E1-B332-F1029775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8229600" y="5943600"/>
          <a:ext cx="91440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29600" y="594360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4A5A-8E17-41D2-ADEB-8CCEBE79AC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wharton.upenn.edu/research/webi.html" TargetMode="Externa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Antonio Holgad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anto, cómo, dónde, con quien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O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 críticos, problemas y supues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y Balances actu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lujo de Tesorería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nálisis de puntos de quie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31760" y="1905120"/>
            <a:ext cx="6120000" cy="3306600"/>
            <a:chOff x="1031760" y="1905120"/>
            <a:chExt cx="6120000" cy="3306600"/>
          </a:xfrm>
        </p:grpSpPr>
        <p:sp>
          <p:nvSpPr>
            <p:cNvPr id="141" name=""/>
            <p:cNvSpPr/>
            <p:nvPr/>
          </p:nvSpPr>
          <p:spPr>
            <a:xfrm>
              <a:off x="1031760" y="520704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31760" y="312408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31760" y="416556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26200" y="1917720"/>
              <a:ext cx="4179600" cy="3294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fefefe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82840" y="1905120"/>
              <a:ext cx="2860560" cy="2255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3b2c1"/>
                </a:gs>
                <a:gs pos="100000">
                  <a:srgbClr val="dfe4e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39120" y="1905120"/>
              <a:ext cx="1547640" cy="1218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99"/>
                </a:gs>
                <a:gs pos="100000">
                  <a:srgbClr val="feecdb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55680" y="251460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12920" y="3352680"/>
              <a:ext cx="155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49200" y="426708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12920" y="2311560"/>
              <a:ext cx="0" cy="28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INDUSTRIA Y LA EMPRESA, SUS PRODUCTOS Y EL ENTOR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 </dc:creator>
  <dc:description/>
  <dc:language>en-US</dc:language>
  <cp:lastModifiedBy> </cp:lastModifiedBy>
  <dcterms:modified xsi:type="dcterms:W3CDTF">2005-05-18T16:01:04Z</dcterms:modified>
  <cp:revision>12</cp:revision>
  <dc:subject/>
  <dc:title>Modelo de Negocios</dc:title>
</cp:coreProperties>
</file>